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E0A-B230-4CFB-B9DA-539ADAF7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7BA-E14C-43B4-B39F-2CBED52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E7A-306E-4B53-9C5B-099D3C64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24E-BA12-4553-919B-F14AA307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B3A-2F92-4603-8370-EAFDD743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80B-4A07-481D-AE8E-685309E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2DD-A1B7-40B3-91A9-FA9A35F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0D6-BC5E-4AF4-B3E0-0671C45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099-B11B-4FB2-9707-65103611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F2F-204C-4706-811E-1986A3E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C5F-D3D5-4320-9AC4-A656ABA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CAC-2E75-40B0-896B-955DA08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114B-E510-473F-9403-7CB56CD0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6705360" cy="8847360"/>
            <a:chOff x="76320" y="152280"/>
            <a:chExt cx="6705360" cy="884736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320" y="327672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320" y="647712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51:11Z</dcterms:created>
  <dc:creator>J</dc:creator>
  <dc:description/>
  <dc:language>en-US</dc:language>
  <cp:lastModifiedBy>J</cp:lastModifiedBy>
  <dcterms:modified xsi:type="dcterms:W3CDTF">2008-10-07T02:59:50Z</dcterms:modified>
  <cp:revision>1</cp:revision>
  <dc:subject/>
  <dc:title>Slide 1</dc:title>
</cp:coreProperties>
</file>